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F1F-2A31-4557-BA98-85D95E9B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B88-ED9A-417A-9306-712E81BE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ED7-55A9-4404-93FB-F7B47A92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FDC-1DD8-4B24-9859-9D947B19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596-5B59-435B-ABD2-4C679E37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62F-7F0C-43C7-83B5-7031597C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FEA-EE73-452B-B81D-70FA812C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797-A8BD-4839-83A2-7305B944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FBC-F0AD-4AD9-9747-E509D68C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C4B-A2A8-48A4-AAE5-5CB11A51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A5E-19CF-44C9-9C39-C06BA402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063-3D07-4085-9470-EF86457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1912-0203-49EB-BEF6-121AA63422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y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ggling school work, athletics, a part-time job, and social life with friends, it’s no wonder teenagers today struggle to live a healthy lifestyle. This presentation give teens some tips on how to eat healthy and live a balanced, stress-free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k a Lunch with a Pu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nch time in the school cafeteria is most likely a time where eating lunch is not a priority and socializing with your friends is. Here are some easy to eat, healthy lunch ideas to help you finish your school day strong and energ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gg or tuna salad sandwich on whole wheat br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key wrap with lettuce, tomato, and 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ad with lots of colorful veg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gurt with fru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tisfying Sup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a small salad to each of the delicious ideas below and you will be able to finish your night strong and energ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r fry vegetables with shrimp or chic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cken fajitas with guacamole and sal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iled salmon or chicken with vege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ked potato with vegetable chili topp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rt Snacking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healthy snacking a part of your everyday routine with the following healthy snack id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wheat pretz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ce cakes with peanut bu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fat yogurt with fresh fr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sh cut veg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l m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14:38:38Z</dcterms:created>
  <dc:creator>Phil Schneider</dc:creator>
  <dc:description/>
  <dc:language>en-US</dc:language>
  <cp:lastModifiedBy>NHBOE</cp:lastModifiedBy>
  <dcterms:modified xsi:type="dcterms:W3CDTF">2015-05-04T13:02:19Z</dcterms:modified>
  <cp:revision>6</cp:revision>
  <dc:subject/>
  <dc:title>Slide 1</dc:title>
</cp:coreProperties>
</file>